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72D-7EF6-464B-9E81-2D4937DD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51E-7172-4C15-BEBC-9AF2B02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D52-98E1-4D9C-97CC-82C03A55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F16-0796-42F5-8047-CFCA0EEE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09F1-B72F-4010-91E5-0FA94FAC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DB4-F1DD-42E8-8FF8-87C28271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B0D-B346-43C1-99E7-C1AF1DE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8971-66F4-45E3-8A6A-3F8B7968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0F3-7AE8-4C62-8DE2-3EAE0893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9C6A-A9E9-464B-AF3A-73E0D948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EA31-D008-4DAF-BFE0-B0370FF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2D1-C96A-4240-A666-841EE76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DC1F-C1EE-41C3-939B-725A5F2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2EAF-DFAE-40B0-96E9-6693D8A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A213-6FB6-4896-9B8C-93BF84E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416F-6C92-48A6-AF75-2D55AABE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E47-B1AB-4D08-9166-4E11E8CF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9BA-BC38-4532-A75E-8A385393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509-A0CB-4F49-B84C-AAE68B79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8174-3ABF-45FD-8FB6-72A4757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9F1-1A90-4C40-B6E6-8BCF52E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743-580F-4D45-B13C-8A3BFC1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25-55C2-431B-98D8-4C8AA04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785-D1D2-451E-A851-DFD0237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D4D-1FC4-4C1A-AD1F-2FE51BF036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AE9-7547-4215-8CEC-806E62A10E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MAU%20BIEN%20BAN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Ỹ THUẬ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HI &amp; TRÌNH BÀY BIÊN BẢ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571680" y="2840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ÀI 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NỘI DUNG BÀI GIẢ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Khaùi nieäm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aân loaï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3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Phöông phaùp ghi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NI-Times"/>
              </a:rPr>
              <a:t>4.</a:t>
            </a:r>
            <a:r>
              <a:rPr b="0" lang="en-US" sz="3600" spc="-1" strike="noStrike">
                <a:solidFill>
                  <a:srgbClr val="000066"/>
                </a:solidFill>
                <a:latin typeface="VNI-Times"/>
              </a:rPr>
              <a:t> Caáu truùc cuûa bieân baû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. KHÁI NIỆM BIÊN BẢ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ăn bản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lại những sự việc, vụ việc đã xảy ra / đang diễn ra để làm chứng cứ pháp lý về sa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Yêu cầu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hi trung thực, khách quan, chính xác &amp; đầy đủ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2. PHÂN LOẠ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ội họ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tiến trình, diễn biế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hành chính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sự việc theo quy định hành chính: Biên bản vi phạm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ên bản trong lĩnh vực tư pháp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lại những sự việc theo quy định của pháp luật tố tụng trong hoạt động của các CQ tư pháp: Biên bản phiên tòa, biên bản lấy lời khai 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3. PHƯƠNG PHÁP GHI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hân loại thông tin khi gh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biết - ghi ý chí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ông tin để thực hiện - ghi đầy đ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ếu người phát biểu yêu cầu ghi nguyên văn thì sử dụng hình thức dẫn lời nói trực tiế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ập trung lắng nghe, ghi chép nha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ử dụng kỹ thuật biến đổi câ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imes New Roman"/>
              </a:rPr>
              <a:t>4. CẤU TRÚC CỦA BIÊN BẢ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ở đầu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ời gian, địa điểm lập biên bản, thành phần tham d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Nội du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hội họp / vụ việc đang diễn ra: ghi theo tiến trìn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iên bản sự việc đã xảy ra: mô tả hiện trường, ghi lời khai nhân chứ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Kết luận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Ghi thời gian, địa điểm kết thúc việc lập biên bản, biên bản được đọc thông qua những người tham dự, số bản được lập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CÂU HỎI ÔN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ân loạ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êu phương pháp ghi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ấu trúc của biên bả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33:18Z</dcterms:created>
  <dc:creator>Bài giảng QTVP_Thầy Nam Hà</dc:creator>
  <dc:description/>
  <dc:language>en-US</dc:language>
  <cp:lastModifiedBy>ntc</cp:lastModifiedBy>
  <dcterms:modified xsi:type="dcterms:W3CDTF">2014-03-23T15:05:46Z</dcterms:modified>
  <cp:revision>53</cp:revision>
  <dc:subject/>
  <dc:title>Chương 9.5</dc:title>
</cp:coreProperties>
</file>